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5A3-0840-4B00-9BEC-0A1A9CA5F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9224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C43-3DFA-4347-A209-246A66D0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922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0360" y="37922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850C-86BF-493F-9ABD-A00705FC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1960" y="152352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38480" y="152352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922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1960" y="37922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38480" y="37922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B55-CE4D-420A-8A19-AAB17577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BE74-C18F-4400-B09A-C13273372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E0F5-00BD-43A6-9F2D-2A2781BF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9C48-8EDB-4F49-B237-749DB7AE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554A-AF0A-4CEF-990B-CD484245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6AD6-C75E-4386-9D97-DF1057D0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E92D-6988-4082-A3EC-469386CD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37922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9789-16E5-405F-86B5-18E216E2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8BD7-69E8-489C-B69E-2FED10BD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90360" y="37922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3FF9-B7DB-4B0B-A506-6AA0AD4F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440" y="379224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B096-92ED-4AE8-918D-B7A44BD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440" y="379224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8333-1BFF-4FF8-83C3-A01F49CF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440" y="37922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90360" y="37922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3A4E-BD0F-47F3-9875-E1075637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1960" y="152352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38480" y="152352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440" y="37922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1960" y="37922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38480" y="3792240"/>
            <a:ext cx="245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8C4F-1A3D-4264-99A7-B2B4E0E6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337-4D99-49C5-AA8F-6D650B15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DB1-7EC5-49AB-A779-F14EDBBF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008-4494-4E6C-BB51-218E5B4A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6C78-9D4E-4704-A29E-177432EF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922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F5EE-4564-4CCE-8231-5A782342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0360" y="379224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6F7-73FE-4200-BD4D-6EEC0FEC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0360" y="1523520"/>
            <a:ext cx="3718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92240"/>
            <a:ext cx="7620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1546-DD4E-4DF5-B9C9-52D1E317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17D8-C69A-4DF7-A595-56638B174E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324480" y="617220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34520" y="4038480"/>
            <a:ext cx="0" cy="2519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129492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D52D-EB51-42BD-AB15-E549C236CAB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Untitled-1%20copy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1218960" cy="113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75248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74320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45.xml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 rot="5400000">
            <a:off x="-1274760" y="2570040"/>
            <a:ext cx="422568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Gedächtnis I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45720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lturelle Modelle, Skripts und Schem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um die Welt im Kopf verzerrt 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54100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4495680"/>
            <a:ext cx="5257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Ruprecht-Karls-Universität Heidel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akultät für Verhaltens- und Empirische Kulturwissenschaf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Institut für Ethnologie &amp; Psychologisches Instit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Vorlesung und Übung: Kognitionspsychologie meets Ethnolo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Dozenten: Prof. Dr. Jürg Wassmann, Prof. Dr. Joachim Fun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Referenten: Silke Holub, Christoph Bergma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Gewicht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620120" cy="4952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wichte (reelle Zahlen zwischen –1 und 1) kontrollieren die Stärke des jeweiligen Signals, d.h., sie bestimmen wesentlich die Funktionsweise des Netz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s Gewic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egende Verbi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gatives Gewich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mmende Verbin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rechnung des gegenseitigen Einflusses von Einheit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Stärke des Einflusses einer Einhei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f eine Einhei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hält man, indem man den Aktivationsgrad v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t dem Gewicht der Verbindung multipliz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 Summe dieser Einflüsse auf eine Einheit bezeichnet man al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to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 Aktivationsgrad v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u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gibt sich aus dem Aktivations-grad von b zu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wie aus dem Einfluss, den die mi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rbundenen Einheiten zu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f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süb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05320" y="22860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259092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Berechnung Aktivationsgrad / Nettoinpu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267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590920"/>
            <a:ext cx="53352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4267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267080"/>
            <a:ext cx="53352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4" idx="7"/>
            <a:endCxn id="115" idx="3"/>
          </p:cNvCxnSpPr>
          <p:nvPr/>
        </p:nvCxnSpPr>
        <p:spPr>
          <a:xfrm flipV="1">
            <a:off x="1598760" y="3045600"/>
            <a:ext cx="918000" cy="12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6" idx="0"/>
            <a:endCxn id="115" idx="4"/>
          </p:cNvCxnSpPr>
          <p:nvPr/>
        </p:nvCxnSpPr>
        <p:spPr>
          <a:xfrm flipV="1">
            <a:off x="2704680" y="3123360"/>
            <a:ext cx="108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1"/>
            <a:endCxn id="115" idx="5"/>
          </p:cNvCxnSpPr>
          <p:nvPr/>
        </p:nvCxnSpPr>
        <p:spPr>
          <a:xfrm flipH="1" flipV="1">
            <a:off x="2894040" y="3045600"/>
            <a:ext cx="993960" cy="12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752480" y="33526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2320" y="35812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52680" y="3276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4876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48769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4876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1447920"/>
            <a:ext cx="2590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4343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6668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219320"/>
            <a:ext cx="601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toin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on unit 4 zu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1*1+0,5*0+(-1)*0,5=0,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752480"/>
            <a:ext cx="601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ktivationsgr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n unit 4 zu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0,25+0,5=0,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22096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2590920"/>
            <a:ext cx="33530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nn der Aktivationsgra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 &lt; -1 bzw. &gt; 1 wäre, so wird der Wert -1 bzw. 1 geset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euronale Netz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620120" cy="4876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Die Aktivationsmuster zwischen Einheiten repräsentieren das `Wissen´ des Syst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Propositionen werden über Aktivationsmuster repräsentiert, d.h., syntaktische Strukturen sind irreleva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Informationsverarbeitung kann sowohl seriell als auch parallel erfol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Das System entwickelt `Wissen´ über erlernte Assoziationen zwischen den Eigenschaften einer Anzahl spezifischer Fäl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Zu Beginn liegt der Zahlenwert der Gewichte bei 0 (oder zufällig gewählten kleinen Zahlen). Es wird derselbe allgemeine Lernalgorithmus angewende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Neuronale Netz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Ein neuronales Netz wird über drei grundlegende Eigenschaften charakterisie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chitek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rdnung der Einhei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indungsglie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rnalgorithmus bzw. Trainingsmethode: Legt die Gewichte der Verbindungsglieder f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tivierungsfunktion (Implementierte Funktion jed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ie das Output hinsichtlich eines entsprechenden Inputs festleg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90920" y="32767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0920" y="32767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lassen neuronaler Netz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Man unterscheidet zwischen drei Klass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inschichtig / feed-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hrschichtig / feed-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eriodi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Die meisten Netze haben die Struktur von feed-forward-Netzen, d.h., dass der Aktivationsfluß nur in eine Richtung läu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inschichtig / feed-forward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2438280"/>
            <a:ext cx="216540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nput-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352680" y="1981080"/>
            <a:ext cx="2514600" cy="2361960"/>
            <a:chOff x="3352680" y="1981080"/>
            <a:chExt cx="2514600" cy="2361960"/>
          </a:xfrm>
        </p:grpSpPr>
        <p:grpSp>
          <p:nvGrpSpPr>
            <p:cNvPr id="147" name=""/>
            <p:cNvGrpSpPr/>
            <p:nvPr/>
          </p:nvGrpSpPr>
          <p:grpSpPr>
            <a:xfrm>
              <a:off x="3352680" y="1981080"/>
              <a:ext cx="1676520" cy="2361960"/>
              <a:chOff x="3352680" y="1981080"/>
              <a:chExt cx="1676520" cy="2361960"/>
            </a:xfrm>
          </p:grpSpPr>
          <p:sp>
            <p:nvSpPr>
              <p:cNvPr id="148" name=""/>
              <p:cNvSpPr/>
              <p:nvPr/>
            </p:nvSpPr>
            <p:spPr>
              <a:xfrm flipV="1">
                <a:off x="3581280" y="2209680"/>
                <a:ext cx="10670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V="1">
                <a:off x="3581280" y="2209680"/>
                <a:ext cx="106704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352680" y="1981080"/>
                <a:ext cx="1676520" cy="2361960"/>
                <a:chOff x="3352680" y="1981080"/>
                <a:chExt cx="1676520" cy="23619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648320" y="1981080"/>
                  <a:ext cx="380880" cy="38088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648320" y="2590560"/>
                  <a:ext cx="380880" cy="38088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648320" y="3276360"/>
                  <a:ext cx="380880" cy="38088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648320" y="3962160"/>
                  <a:ext cx="380880" cy="380880"/>
                </a:xfrm>
                <a:prstGeom prst="ellipse">
                  <a:avLst/>
                </a:prstGeom>
                <a:solidFill>
                  <a:srgbClr val="00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352680" y="2514240"/>
                  <a:ext cx="228600" cy="2286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352680" y="3047760"/>
                  <a:ext cx="228600" cy="2286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352680" y="3657240"/>
                  <a:ext cx="228600" cy="22860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581280" y="2590560"/>
                  <a:ext cx="106704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581280" y="2590560"/>
                  <a:ext cx="1067040" cy="83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581280" y="2590560"/>
                  <a:ext cx="1067040" cy="15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V="1">
                  <a:off x="3581280" y="2742480"/>
                  <a:ext cx="1067040" cy="381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581280" y="3124080"/>
                  <a:ext cx="1067040" cy="304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581280" y="3124080"/>
                  <a:ext cx="1067040" cy="99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3581280" y="2209320"/>
                  <a:ext cx="1067040" cy="1523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V="1">
                  <a:off x="3581280" y="2819160"/>
                  <a:ext cx="1067040" cy="914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3581280" y="3504600"/>
                  <a:ext cx="106704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581280" y="3733560"/>
                  <a:ext cx="106704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5029200" y="21333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9200" y="28191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29200" y="35049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29200" y="419076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324480" y="2514600"/>
            <a:ext cx="19782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Output-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Mehrschichtig / feed forward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9880" y="3048120"/>
            <a:ext cx="128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Inpu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819520" y="2286000"/>
            <a:ext cx="3733200" cy="2362320"/>
            <a:chOff x="2819520" y="2286000"/>
            <a:chExt cx="3733200" cy="2362320"/>
          </a:xfrm>
        </p:grpSpPr>
        <p:grpSp>
          <p:nvGrpSpPr>
            <p:cNvPr id="176" name=""/>
            <p:cNvGrpSpPr/>
            <p:nvPr/>
          </p:nvGrpSpPr>
          <p:grpSpPr>
            <a:xfrm>
              <a:off x="2819520" y="2286000"/>
              <a:ext cx="2895120" cy="2362320"/>
              <a:chOff x="2819520" y="2286000"/>
              <a:chExt cx="2895120" cy="2362320"/>
            </a:xfrm>
          </p:grpSpPr>
          <p:sp>
            <p:nvSpPr>
              <p:cNvPr id="177" name=""/>
              <p:cNvSpPr/>
              <p:nvPr/>
            </p:nvSpPr>
            <p:spPr>
              <a:xfrm>
                <a:off x="4114800" y="2286000"/>
                <a:ext cx="380520" cy="38124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114800" y="2895840"/>
                <a:ext cx="380520" cy="3808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14800" y="3581640"/>
                <a:ext cx="380520" cy="3808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114800" y="4267440"/>
                <a:ext cx="380520" cy="380880"/>
              </a:xfrm>
              <a:prstGeom prst="ellipse">
                <a:avLst/>
              </a:prstGeom>
              <a:solidFill>
                <a:srgbClr val="99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819520" y="2819520"/>
                <a:ext cx="22824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819520" y="3353040"/>
                <a:ext cx="22824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819520" y="3962520"/>
                <a:ext cx="228240" cy="2286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047760" y="2514240"/>
                <a:ext cx="106668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47760" y="2895840"/>
                <a:ext cx="10666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047760" y="2895840"/>
                <a:ext cx="106668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047760" y="2895840"/>
                <a:ext cx="1066680" cy="152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047760" y="2514600"/>
                <a:ext cx="1066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47760" y="3429000"/>
                <a:ext cx="106668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047760" y="3124440"/>
                <a:ext cx="106668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3047760" y="3809880"/>
                <a:ext cx="106668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047760" y="4038840"/>
                <a:ext cx="10666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047760" y="3048120"/>
                <a:ext cx="10666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047760" y="3429000"/>
                <a:ext cx="106668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3047760" y="2514600"/>
                <a:ext cx="106668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333760" y="3733920"/>
                <a:ext cx="380880" cy="3808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333760" y="2819520"/>
                <a:ext cx="380880" cy="380880"/>
              </a:xfrm>
              <a:prstGeom prst="ellipse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495680" y="2514600"/>
                <a:ext cx="8377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495680" y="2514600"/>
                <a:ext cx="837720" cy="137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4495680" y="2971800"/>
                <a:ext cx="8377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495680" y="3048120"/>
                <a:ext cx="837720" cy="83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4495680" y="2971440"/>
                <a:ext cx="83772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95680" y="3733920"/>
                <a:ext cx="8377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495680" y="2971800"/>
                <a:ext cx="83772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495680" y="3886200"/>
                <a:ext cx="83772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5715000" y="297180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962520"/>
              <a:ext cx="83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58000" y="3048120"/>
            <a:ext cx="11811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Outpu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00"/>
                </a:solidFill>
                <a:latin typeface="Arial"/>
              </a:rPr>
              <a:t>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2920" y="1676520"/>
            <a:ext cx="224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4-2 Netz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4876920"/>
            <a:ext cx="211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6600"/>
                </a:solidFill>
                <a:latin typeface="Arial"/>
              </a:rPr>
              <a:t>Verborgene Schi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erborgene Einheite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ine Schicht, die zwischen der Input- und Outputschicht lieg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Über eine solche Schicht kann das System nichtlineare Funktionen erlernen (XOR-Problem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Über verborgene Einheiten kann das Netzwerk Kombinationen von Eigenschaften des Inputs repräsentier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Zu viele verborgene Einheiten: Das Muster des Inputs wird gespeiche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Zu wenige verborgene Einheiten: Das Netzwerk kann nicht alle notwendigen Generalisierungen repräsentier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Lernen – Programmierung eines neuronalen Netze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Wann lernt ein neuronales Netz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Training &amp; Tes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Hebbs´ Reg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Lernmetho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Grenzen von Hebbs´ Reg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Das XOR Probl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Backpropagation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in vielschichtigen Netzwerk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ann lernt ein neuronales Netz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rnen: Veränderung der Gewichte von Verbindungen zwische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urch Veränderung der Gewichte werden Inputs in nachfolgenden Durchgängen anders verarbeitet; der Wert eines Gewichtes bleibt nach dem Training relativ konsta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r Aktivierungsgrad unterliegt dahingegen einer ständigen Veränderung (je nach Inpu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Skripts und Schemat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Konnektionismus &amp; Ethnologi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Kulturelles Erinnerungsvermö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Kulturelles Gedächtni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Diskuss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raining &amp; Te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419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Durch ein Lernverfahren sollen sich die Gewichte der Verbindungsglieder so einstellen, dass das Netzwerk fähig ist, auf eine bestimmte Menge von </a:t>
            </a: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Fällen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korrekte Antworten zu liefer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eder Fall wird durch ein bestimmtes Aktivationsmuster der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der Input- und Outputschicht charakteris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Man differenziert zwischen Trainings- und Testmod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rainingsmodus: Dem Netzwerk wird eine Menge von Fällen präsentiert; einmaliger Durchlauf aller Fälle &gt;&gt; Epo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estmodus: Nach einer (oder mehreren Epochen) werden dem Netzwerk nun einzig die Inputmuster der gelernten Fälle präsent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ie Regel Hebbs´ (1949)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620120" cy="4724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00000"/>
                </a:solidFill>
                <a:latin typeface="Times New Roman"/>
              </a:rPr>
              <a:t>Annahme:</a:t>
            </a: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 In einem biologischen Nervensystem bewirkt ein Lernprozess eine Verstärkung der Verbindung zwischen zwei Neuronen, wenn diese zum gleichen Zeitpunkt t aktiv war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00"/>
                </a:solidFill>
                <a:latin typeface="Times New Roman"/>
              </a:rPr>
              <a:t>Diese Regel wurde innerhalb des Konnektionismus adaptier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pezifikation einer Funktion: </a:t>
            </a:r>
            <a:r>
              <a:rPr b="0" lang="de-DE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Gewich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i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ra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Lra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t eine Konstante, die die Lerngeschwindigkeit spezifizi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bezeichnet den Wert der Aktivierung der Outputein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bezeichnet den Wert der Aktivierung der Inputeinhe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gt;&gt; wenn beide Einheiten einen positiven /negativen Wert aufweisen, so wird die Verbindung zwischen ihnen proportional zum Produkt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Lra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*a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verstärkt (bei unterschiedlichen Vorzeichen &gt;&gt; Hemmu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410080" y="1219320"/>
            <a:ext cx="2895840" cy="9144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1280" y="2819520"/>
            <a:ext cx="1219320" cy="761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wendung von Hebbs´ Regel – zweischichtige Netzwerk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143000" y="2209680"/>
          <a:ext cx="7238880" cy="3809880"/>
        </p:xfrm>
        <a:graphic>
          <a:graphicData uri="http://schemas.openxmlformats.org/drawingml/2006/table">
            <a:tbl>
              <a:tblPr/>
              <a:tblGrid>
                <a:gridCol w="1143000"/>
                <a:gridCol w="1295280"/>
                <a:gridCol w="1219320"/>
                <a:gridCol w="1218960"/>
                <a:gridCol w="1219320"/>
                <a:gridCol w="1143000"/>
              </a:tblGrid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Akti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-0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2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wünschte Output Aktiv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1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-1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-1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1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33520" y="137160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rate=1/n (n=Anzahl der Inp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endCxn id="221" idx="4"/>
          </p:cNvCxnSpPr>
          <p:nvPr/>
        </p:nvCxnSpPr>
        <p:spPr>
          <a:xfrm flipV="1">
            <a:off x="4800240" y="2133720"/>
            <a:ext cx="2057760" cy="107820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27" name=""/>
          <p:cNvSpPr/>
          <p:nvPr/>
        </p:nvSpPr>
        <p:spPr>
          <a:xfrm>
            <a:off x="5791320" y="14479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410080" y="1447920"/>
            <a:ext cx="29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Gewicht=1/4*</a:t>
            </a:r>
            <a:r>
              <a:rPr b="0" lang="de-DE" sz="2000" spc="-1" strike="noStrike">
                <a:solidFill>
                  <a:srgbClr val="009900"/>
                </a:solidFill>
                <a:latin typeface="Times New Roman"/>
                <a:ea typeface="Arial"/>
              </a:rPr>
              <a:t>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*</a:t>
            </a:r>
            <a:r>
              <a:rPr b="0" lang="de-DE" sz="2000" spc="-1" strike="noStrike">
                <a:solidFill>
                  <a:srgbClr val="996633"/>
                </a:solidFill>
                <a:latin typeface="Times New Roman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ie Regel Hebbs´ermöglicht zwei Lernmethode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aufsichtigtes Lernen: Ein Input wird mit einem Output verknüpft (Korrekturen werden über eine externe Instanz durchgeführt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und Output sind identisch: Autoassoziatives Ler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und Output sind verschieden: Heteroassoziatives Ler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Unbeaufsichtigtes Lernen: Kein `Lehrer´ bzw. feedback, d.h., das Netzwerk versucht eigenständig Regularitäten innerhalb des Inputs festzustell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Grenzen von Hebbs´ Reg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Wird ein Netzwerk nach Hebbs´ Regel trainiert, so dürfen die Aktivationsmuster der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units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r Inputschicht (aus der Menge der zu erlernenden Fälle) nicht korrelier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üfverfahr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 Netzwerk hat einen bestimmten Fall A gelernt, d.h., es verfügt über spezifische Gewichte für diesen F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 berechnet nun (mittels der Gewichtseinstellungen aus Fall A), ob das Inputmuster eines Falles B zu dem konstanten Outputmuster 0 führt; ist dies der Fall, so liegt keine Korrelation v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as XOR Problem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16200" y="1981080"/>
            <a:ext cx="29408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68360" y="20574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791320" y="25909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/>
          <p:nvPr/>
        </p:nvCxnSpPr>
        <p:spPr>
          <a:xfrm flipV="1">
            <a:off x="5181120" y="3123720"/>
            <a:ext cx="623160" cy="138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4800600" y="4648320"/>
            <a:ext cx="6094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4648320"/>
            <a:ext cx="60948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/>
          <p:nvPr/>
        </p:nvCxnSpPr>
        <p:spPr>
          <a:xfrm flipH="1" flipV="1">
            <a:off x="6476760" y="3123720"/>
            <a:ext cx="699120" cy="138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7010640" y="34290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24640" y="34290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3960" y="5334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7680" y="5334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1066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s XOR Problem kann nur vermittelst einer dritten Schicht (verborgene Schicht) gelöst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Backpropaga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ierbei handelt es sich um eine Lernstrategie, die auf Netzwerke mit versteckten Einheiten angewendet werden kann – Lösung des XOR Problem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isierung der Lernsit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tivierungen breiten sich vorwärtsgerichtet 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ückwärtsgerichtete Fehlerkorrektur durch Veränderungen der Gewichte; dabei wird für jede Einheit einer tieferliegenden Schicht dessen Beitrag für die Fehlerhaftigkeit des Outputs identifiziert und [über mehrere Durchgänge hinweg] korrig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onnektionismus &amp; Ethnologi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iele Schemata sind kulturell bedingt, d.h., sie werden von Menschen geteilt, die ähnliche – sozial vermittelte – Erfahrungen gemacht hab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che kulturellen Schemata werden innerhalb der Ethnologie auch al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ulturelle Model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klassifizi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Zieht man den Konnektionismus als Erklärungsrahmen kultureller Modelle heran, so können diese als geistige Zustände, die aus den spezifischen Umständen der Lernumgebung resultieren, verstanden wer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ulturelle Modelle und die hieraus generierten Bedeutungen si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ontextsensit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ritikpunkt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rt und Weise der Weitergabe kulturellen Wissens wird simplifizie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der ethnologischen Forschung hat sich herausgestellt, dass kulturell erlernte Modelle auf beiden Lernmethoden basieren (kontrolliert/unkontrollie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earning by guided discove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D´Andra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rnen über explizite Regeln (Programme) wird vernachlässig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ziale Lernsituationen sind von selektiver Aufmerksamkeit gepräg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olle von Emotionen / Motivationen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81080" y="129492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ulturelles Erinnerungsvermöge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742840" y="3580920"/>
            <a:ext cx="5791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Aspekte kultureller Erinner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Intertextualitä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Identitä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1080" y="1294920"/>
            <a:ext cx="6553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onnektionismus &amp; Ethnologi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895480" y="3429000"/>
            <a:ext cx="5639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Symbolsyst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Grundlagen des Konnektionismu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Neuronale Netze &amp; Lernprozess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Theoretische Adaption in der Ethnologi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harakterisierung kultureller Erinnerunge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Kontinuierliche Verhandlung / ständige Rekontextualisier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ulturelle Erinnerungen sind so veränderlich wie die sozialen Dynamiken aus denen sie hervorg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opographie unendlich vieler möglicher 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Eine theoretische Analyse, die mit postulierten Fixpunkten des kulturellen Erinnerungsvermögen operiert, sollte als ein heuristisches Verfahren angesehen wer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Zwei Aspekte des kulturellen Erinnerungsvermöge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tergruppale Erinner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nzpolit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tragruppale Erinner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fahrungen werden Bedeutungen zugeordnet, die kulturellen Sinn schaf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rupp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rausgesetzte Hörerschaft; Adress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rausgesetzter Kontext; Erfahrungsort / Erinnerungslandsc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Ent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ragruppale Erinnerunge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Geschichten, die eine einzelne Abstammungslinie bzw. eine maßgebliche Version kanonisier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kteristika: Betonung großartiger Fortschritte; Heroen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ederkehrende Figuren und Themen konstituieren ein Glossar, in dessen Licht die Geschichten gelesen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ngeschrieben in Monumente; Rezitiert an Feiert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oniken, die von Autoritäten (und allen, die nach Autorität streben) nacherzähl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Vokabular einer Gruppe (Privatsprache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ertextualitä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Texte, die wir rezipieren und die wir selber produzieren, sind oft eingewoben in ein Netz anderer Texte, auf die sie sich beziehen, von denen sie nehmen und denen sie geb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Intertexte können als </a:t>
            </a:r>
            <a:r>
              <a:rPr b="1" lang="de-DE" sz="2500" spc="-1" strike="noStrike">
                <a:solidFill>
                  <a:srgbClr val="000000"/>
                </a:solidFill>
                <a:latin typeface="Times New Roman"/>
              </a:rPr>
              <a:t>die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Ressource des intragruppalen Erinnerns angesehen werd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Jedes Symbol in einem kulturellen Korpus von Geschichten ist bedeutsam vermittelst seiner vielfältigen Bezü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Prozeß des `sich Erinnerns´, den ein solches Symbol auslösen kann, identifiziert Gruppenmitglieder und differenziert selbige von Außensei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as kulturelle Selbs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620120" cy="464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Private, intertextuelle Sprache und die elliptischen Bezüge intragruppaler Erinnerungen liefern einen Verhandlungsort um das kulturelle Selbs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konstruktion des kulturellen Selb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konfiguration vermittelst intragruppaler Erinn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historischen Ereignisse, auf welche die Erinnerungen zielen, sind meist durch das Eindringen Fremder (die eine andere Art des Mensch-Seins repräsentieren) geprä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olche fremden Seins-Arten können nun integriert we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Korpus der akzeptierten  Gefühls- und Verhaltensmuster wird erweit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Intragruppale Erinnerung scheint exklusiv zu sein; de facto werden jedoch fremde Erfahrungen integrie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ku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er Fokus intragruppaler Erinnerungen ist nicht der Kontrast zwischen Gruppen, sondern der Kontrast zwischen einer als bedeutsam erachteten kulturellen Vergangenheit und der Aufhebung dieser Bedeutsamkeit in der Gegenwa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el an kulturellen Bedeutungen wird über intragruppale Erinnerungen gedämp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chemas intragruppaler Erinnerung liefern eine Grammatik, die es ermöglicht, historischen Lärm in einen historischen Diskurs zu transformieren, der für Zeitgenossen verständlich is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ersönliche Erinnerunge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ufgrund der intertextuellen Natur intragruppaler Erinnerungen werden kollektive und persönlicher Erinnerungen nebeneinandergestel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ffektiver Gehal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z zwischen dem was wir schätzen und dem was wir leben; symbolisiert über die persönliche Erfahrung des Verlu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ht das Gefühl des unmittelbaren Verlustes in eine distanzierte Erinnerung über, so kann man von Nostalgie spre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rtschätzen vergangener Zeiten und den darin entdeckten Bedeut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ospektive Erkenntnis eines Verlus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ognitio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tragruppale Erinnerungen sind blind gegenüber der nahen Vergangenhei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uslassungen ähneln einer Amnesi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in Vergessen  &gt;&gt; zeitweise Lös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muliert das Bedürfnis, sich zu erinn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olographisches Erinner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Überlagerung von teilweise sehr ähnlichen Erinnerungen; potentielle Verbindungen werden erkan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ablierung von Schemata: was es bedeutet, religiös zu s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zess der mimetischen Unvollständigkeit: Erinnerungen werden als annähernde Kopien erkannt, wobei vielfältige Interpretationsmöglichkeiten zulässig sind (generativer Proz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tergruppale Erinnerung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Suche nach einer Ursprungserzählungen, die eindeutig die Tatsache betreffen, wer zuerst ka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ingen um die soziale 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An eine größere Audienz gerichtet; das kommunikative Anliegen ist auch für Außenseiter evid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Selektivität dessen, was erinnert wi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isstönende Elemente werden unterdrückt, um eine bedeutsame Vergangenheit zu schaffen (politisches Instr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Die selektierten Elemente müssen keine tiefen historischen Wurzeln haben, werden jedoch zu Emblemen der jeweiligen Grupp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urzsichtigkeit hinsichtlich der entfernten Vergangenhe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Vergessen und Wissen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7620120" cy="49528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tergruppale Erinnerungen basieren auf dem Prozess kollektiven Vergesse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nnerungen einer einheitlichen, beständigen sozialen Ordnung verdrängen Erinnerungen des Verf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Die Ursprünge, auf welche intergruppale Erinnerungen zielen, sind de facto Zeiten eines historischen Bruchs; treten als ihr natürliches Gegenteil auf, d.h., Geschichten des Anfang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zess der mimetischen Aneignung: Die Geschichten, Bräuche und Werte der kulturell Anderen werden als unentwickelte Versionen eigener kultureller Schemata assimilie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emory is hermeneutical, remember that Hermes is the god of thieves“ (Mageo, S. 2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Zwei Weisen kognitiver Modellierung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Das interdisziplinäre Vorgehen der </a:t>
            </a:r>
            <a:r>
              <a:rPr b="0" lang="de-DE" sz="25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Kognitionswissenschaf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Wie lassen sich kognitive Prozesse modellieren?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ognition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ymbolmani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gitale Computer als symbolmanipulative Automa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spiration: Formale Logi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nahme: Menschliche Kognition ist wesentlich symbol-manipulat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Projekt der KI-Fors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ognitio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unktionsweise von Nervensyst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289548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5029200"/>
            <a:ext cx="838080" cy="228600"/>
          </a:xfrm>
          <a:prstGeom prst="leftRightArrow">
            <a:avLst>
              <a:gd name="adj1" fmla="val 50000"/>
              <a:gd name="adj2" fmla="val 72983"/>
            </a:avLst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dentitä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Zu den Aspekten des kulturellen Erinnerungs-vermögens korrelieren zwei Formen kultureller Identitä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ragruppale Erinnerung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expansive Ident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s Spektrum menschlicher Entwicklungsmöglichkeiten wird erweite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Vielseitige Stimme werden versöhnt (Multivokalitä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tergruppale Erinnerung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ontrastive Identitä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tärkung der kulturellen Identität durch Betonung von Gegensätz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dentität als Schutzmantel; eine Stimme wird als wahr herausgegriffen (Unkorrigierbarkeit) &gt;&gt; Nähe zur Ideologi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2819520"/>
            <a:ext cx="838440" cy="228600"/>
          </a:xfrm>
          <a:prstGeom prst="leftRightArrow">
            <a:avLst>
              <a:gd name="adj1" fmla="val 50000"/>
              <a:gd name="adj2" fmla="val 73014"/>
            </a:avLst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67080" y="4191120"/>
            <a:ext cx="838440" cy="228600"/>
          </a:xfrm>
          <a:prstGeom prst="leftRightArrow">
            <a:avLst>
              <a:gd name="adj1" fmla="val 50000"/>
              <a:gd name="adj2" fmla="val 73014"/>
            </a:avLst>
          </a:prstGeom>
          <a:gradFill rotWithShape="0">
            <a:gsLst>
              <a:gs pos="0">
                <a:srgbClr val="000000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Was lässt sich mit einem solchen Modell erklären?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20120" cy="457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Eingliederung fremder Elemente in das intragruppale Weltverständni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Konstruktion des kulturellen Selbst / der kulturell Ander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Identitä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Erinnerungen als politische Ressour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Kulturelle Amnesie und historisches Bewusstse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Literatur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uss, Claudia / Naomi Quinn (1997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Cognitive theory of cultural mea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ambridge: Cambridge Univ. P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geo, Jeannette Marie (ed.) (2001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ltural Memo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Honolulu: University of Hawai`i P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nnektionism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melhart, D. E. / J. L. McClelland / PDP Reasearch Group (1986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rallel Distributed Processing: Explorations in the Microstructure of Cognition, vol. 1: Found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ambridge, MA: MIT P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htel, William / Adele Abrahamsen (2002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nectionism and the Mind. Parallel Processing, Dynamics, and Evolution in Network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Oxford: Blackwe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ür den kritischen Ge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on, Graham / Jeff Coulter / John R. E. Lee / Wes Sharrock (1995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puters, Minds and Condu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Cambridge: Polity Pr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mindmatters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038840" cy="30481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447920" y="4876920"/>
            <a:ext cx="6629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ttp://www.rzuser.uni-heidelberg.de/~cbergman/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316160" y="1854360"/>
            <a:ext cx="6440400" cy="3890880"/>
            <a:chOff x="1316160" y="1854360"/>
            <a:chExt cx="6440400" cy="3890880"/>
          </a:xfrm>
        </p:grpSpPr>
        <p:sp>
          <p:nvSpPr>
            <p:cNvPr id="285" name="_s36871"/>
            <p:cNvSpPr/>
            <p:nvPr/>
          </p:nvSpPr>
          <p:spPr>
            <a:xfrm>
              <a:off x="3713040" y="2430360"/>
              <a:ext cx="1646280" cy="16462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_s36872"/>
            <p:cNvSpPr/>
            <p:nvPr/>
          </p:nvSpPr>
          <p:spPr>
            <a:xfrm>
              <a:off x="3713040" y="1854360"/>
              <a:ext cx="1646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KI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_s36873"/>
            <p:cNvSpPr/>
            <p:nvPr/>
          </p:nvSpPr>
          <p:spPr>
            <a:xfrm>
              <a:off x="4202280" y="2665440"/>
              <a:ext cx="1645920" cy="16462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_s36874"/>
            <p:cNvSpPr/>
            <p:nvPr/>
          </p:nvSpPr>
          <p:spPr>
            <a:xfrm>
              <a:off x="5797440" y="2460600"/>
              <a:ext cx="1646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format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_s36875"/>
            <p:cNvSpPr/>
            <p:nvPr/>
          </p:nvSpPr>
          <p:spPr>
            <a:xfrm>
              <a:off x="4324320" y="3193920"/>
              <a:ext cx="1646280" cy="1646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_s36876"/>
            <p:cNvSpPr/>
            <p:nvPr/>
          </p:nvSpPr>
          <p:spPr>
            <a:xfrm>
              <a:off x="6110280" y="4237200"/>
              <a:ext cx="1646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Kyberneti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_s36877"/>
            <p:cNvSpPr/>
            <p:nvPr/>
          </p:nvSpPr>
          <p:spPr>
            <a:xfrm>
              <a:off x="3986280" y="3619440"/>
              <a:ext cx="1646280" cy="164628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4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_s36878"/>
            <p:cNvSpPr/>
            <p:nvPr/>
          </p:nvSpPr>
          <p:spPr>
            <a:xfrm>
              <a:off x="5237280" y="5332320"/>
              <a:ext cx="1646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Neuro-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physiologi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_s36883"/>
            <p:cNvSpPr/>
            <p:nvPr/>
          </p:nvSpPr>
          <p:spPr>
            <a:xfrm>
              <a:off x="3443400" y="3621240"/>
              <a:ext cx="1646280" cy="164592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_s36884"/>
            <p:cNvSpPr/>
            <p:nvPr/>
          </p:nvSpPr>
          <p:spPr>
            <a:xfrm>
              <a:off x="2190600" y="5334120"/>
              <a:ext cx="1646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Kognitive 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Psychologi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_s36879"/>
            <p:cNvSpPr/>
            <p:nvPr/>
          </p:nvSpPr>
          <p:spPr>
            <a:xfrm>
              <a:off x="3103560" y="3197160"/>
              <a:ext cx="1646280" cy="164628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46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_s36880"/>
            <p:cNvSpPr/>
            <p:nvPr/>
          </p:nvSpPr>
          <p:spPr>
            <a:xfrm>
              <a:off x="1316160" y="4240080"/>
              <a:ext cx="164628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Neuro-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psychologi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_s36881"/>
            <p:cNvSpPr/>
            <p:nvPr/>
          </p:nvSpPr>
          <p:spPr>
            <a:xfrm>
              <a:off x="3222720" y="2666880"/>
              <a:ext cx="1646280" cy="16462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_s36882"/>
            <p:cNvSpPr/>
            <p:nvPr/>
          </p:nvSpPr>
          <p:spPr>
            <a:xfrm>
              <a:off x="1625760" y="2462040"/>
              <a:ext cx="164592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Linguistik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Kognitionswissenschaf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previousslide"/>
          </p:cNvPr>
          <p:cNvSpPr/>
          <p:nvPr/>
        </p:nvSpPr>
        <p:spPr>
          <a:xfrm>
            <a:off x="3049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Projekt der KI-Forschung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153280" cy="3154320"/>
          </a:xfrm>
          <a:prstGeom prst="rect">
            <a:avLst/>
          </a:prstGeom>
          <a:ln w="0">
            <a:noFill/>
          </a:ln>
        </p:spPr>
      </p:pic>
      <p:sp>
        <p:nvSpPr>
          <p:cNvPr id="303" name="">
            <a:hlinkClick r:id="" action="ppaction://hlinkshowjump?jump=previousslide"/>
          </p:cNvPr>
          <p:cNvSpPr/>
          <p:nvPr/>
        </p:nvSpPr>
        <p:spPr>
          <a:xfrm>
            <a:off x="30492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10810"/>
                </a:moveTo>
                <a:lnTo>
                  <a:pt x="17806" y="3804"/>
                </a:lnTo>
                <a:lnTo>
                  <a:pt x="17806" y="1781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Symbolsysteme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ymbole als Grundeinheit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ropositionen werden als Symbolreihen repräsentiert, die über eine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pezifische syntaktisch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Struktur verfüge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formationsverarbeitung ist äußerst sensitiv gegenüber der syntaktischen Struktu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formationsverarbeitung erfolgt seriel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ernfähigkeit basiert auf dem jeweiligen Programm, welches das System implementie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: explizites, formales Regelwerk; `Wissen´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Inspiration des Konnektionismu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piration: natürliche Nervensyste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ronen als strukturierte [computationale] Grundeinheiten des Gehi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driten (Informationsaufnah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llkörper (Integration der Information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xon (Informationsweitergab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apse (Verbindungsgli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undopera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zelluläre Kommunikation via Synapsen (Neurotransmi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mmung/Erre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undlegende Informationseinheit: Feuerrate eines Neurons (Aktivationsg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Aufbau eines Neur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2_1" descr=""/>
          <p:cNvPicPr/>
          <p:nvPr/>
        </p:nvPicPr>
        <p:blipFill>
          <a:blip r:embed="rId1"/>
          <a:stretch/>
        </p:blipFill>
        <p:spPr>
          <a:xfrm>
            <a:off x="0" y="106668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Charakteristika eines künstlichen Neur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620120" cy="4343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ünstliche Neuronen als Grundeinheiten  [</a:t>
            </a:r>
            <a:r>
              <a:rPr b="0" i="1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se werden über einen externen Reiz bzw. andere Einheiten aktiviert und aktivieren ihrerseits entweder andere Einheiten oder repräsentieren einen Teil des Outputs (oder beides)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e </a:t>
            </a:r>
            <a:r>
              <a:rPr b="0" i="1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 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ert eine Funktion, die für jedes Input ein entsprechendes Output festleg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übertragung zwischen den </a:t>
            </a:r>
            <a:r>
              <a:rPr b="0" i="1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rfolgt über spezifische Verbindungsglieder mit Gewichten [</a:t>
            </a:r>
            <a:r>
              <a:rPr b="0" i="1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s</a:t>
            </a:r>
            <a:r>
              <a:rPr b="0" lang="de-DE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unit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153280" cy="4705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Aufbau eines künstlichen Neuron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ristobal</cp:lastModifiedBy>
  <dcterms:modified xsi:type="dcterms:W3CDTF">2003-12-10T22:56:32Z</dcterms:modified>
  <cp:revision>16</cp:revision>
  <dc:subject/>
  <dc:title>PowerPoint-Präsentation</dc:title>
</cp:coreProperties>
</file>